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BEA4-9F72-473D-AEE9-CDE826DE5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4D4D-2C7A-4745-BB9C-4CA48ABA5F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4642-E7EC-412B-9F21-9FD9176904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2C44-67C7-4357-ADE3-E77D9FA8FB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2DB3-EA95-43BE-BCA4-E0EDA99DBC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4D63-47F5-4371-B5A4-02B972E5DF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569A-0C87-482C-878A-F13EDCE1B0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207E-EF0B-415D-B264-261B7D04E9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A81A-7BAA-4278-BCB3-8FE9A71BD4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9533-8FD5-442C-AC33-5EBA30110F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9A86-D49B-4B73-9ADF-DA364E9A3E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86C9-83B6-4C85-B40A-AD8E351A1D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9357-A89F-4A55-B668-5C4BBFFF97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0375-66E3-4949-AC65-94866BF229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EA53-A7CB-497E-9387-5E6729E547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5F78D-11F2-4911-9DB8-DDB66A165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A02C-0463-4BFA-846A-426C3AE81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AE37-094F-4B20-A13F-1D367AF38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44680-0A41-4FE4-91FC-8455C73F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8FFF4-E5FF-4904-9961-71F71D9C9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3551A-A294-4701-A1B3-8EE3591B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85926-B721-4225-9FA3-F7DEB175C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DF453-869C-4FB9-AF92-C66ECB071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79965-2EBA-46C4-A465-0A444EFE1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25685-471D-4DC5-BBAE-F876A6C30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04487-5AB3-479B-9B32-3B05E4FC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5D54-60E6-4928-A163-30E4B471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877DA-1756-49A0-B9CD-E1F70A6F4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BF2F0-EFAC-47E3-9740-453C419E5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C8734-FECE-4FC3-82F7-913A2B91D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F0541-D3C9-4703-BBCF-44768CD83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0F222-5125-41FA-9CB8-9482D354A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F54A4-C6CA-4A56-9057-327D3B6FD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26D79-A3B1-4611-A24C-6F925C024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49C5-A437-4BA5-AC78-D01D5F85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290F1-FBA4-4608-935E-133740B2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16F0-1FE7-444E-9A0E-421026F17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B2BA-5378-42A2-9489-40535867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C85A-3EBC-4507-986A-02C2DAF9F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464B-CE40-4784-BAA6-0C6E7329B8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30F0-7D0A-42B2-9370-4D377FDBEF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49560"/>
            <a:ext cx="7772400" cy="2406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Bookman Old Style"/>
              </a:rPr>
              <a:t>Curriculum and Assessment</a:t>
            </a:r>
            <a:br>
              <a:rPr sz="3600"/>
            </a:br>
            <a:endParaRPr b="0" lang="en-US" sz="3600" spc="-1" strike="noStrike">
              <a:solidFill>
                <a:srgbClr val="ffcc66"/>
              </a:solidFill>
              <a:latin typeface="Arial"/>
            </a:endParaRPr>
          </a:p>
        </p:txBody>
      </p:sp>
      <p:sp>
        <p:nvSpPr>
          <p:cNvPr id="96" name="PlaceHolder 2"/>
          <p:cNvSpPr>
            <a:spLocks noGrp="1"/>
          </p:cNvSpPr>
          <p:nvPr>
            <p:ph type="subTitle"/>
          </p:nvPr>
        </p:nvSpPr>
        <p:spPr>
          <a:xfrm>
            <a:off x="1371600" y="2819520"/>
            <a:ext cx="64008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urriculum Concept of Alignment</a:t>
            </a:r>
            <a:endParaRPr b="0" lang="en-US" sz="2400" spc="-1" strike="noStrike">
              <a:solidFill>
                <a:srgbClr val="ffcc66"/>
              </a:solidFill>
              <a:latin typeface="Arial"/>
            </a:endParaRPr>
          </a:p>
        </p:txBody>
      </p:sp>
      <p:sp>
        <p:nvSpPr>
          <p:cNvPr id="124" name="PlaceHolder 2"/>
          <p:cNvSpPr>
            <a:spLocks noGrp="1"/>
          </p:cNvSpPr>
          <p:nvPr>
            <p:ph/>
          </p:nvPr>
        </p:nvSpPr>
        <p:spPr>
          <a:xfrm>
            <a:off x="685440" y="1295280"/>
            <a:ext cx="3809880" cy="5181840"/>
          </a:xfrm>
          <a:prstGeom prst="rect">
            <a:avLst/>
          </a:prstGeom>
          <a:noFill/>
          <a:ln w="0">
            <a:noFill/>
          </a:ln>
        </p:spPr>
        <p:txBody>
          <a:bodyPr anchor="t">
            <a:normAutofit/>
          </a:bodyPr>
          <a:p>
            <a:pPr marL="533520" indent="-53352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e of the core concepts for effective curricular change is alignment.  It is achieved when the parts of the whole are seen in relationship to each other.</a:t>
            </a:r>
            <a:endParaRPr b="0" lang="en-US" sz="1800" spc="-1" strike="noStrike">
              <a:solidFill>
                <a:srgbClr val="ffffff"/>
              </a:solidFill>
              <a:latin typeface="Times New Roman"/>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53352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lignment the following aspects of the curriculum must be kept in focus:</a:t>
            </a:r>
            <a:endParaRPr b="0" lang="en-US" sz="18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als, Purposes, Outcomes, Objectives</a:t>
            </a:r>
            <a:endParaRPr b="0" lang="en-US" sz="18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livery system, Instruction, Materials, Organization</a:t>
            </a:r>
            <a:endParaRPr b="0" lang="en-US" sz="18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essment, Evaluation/Testing, Measurement, Monitoring</a:t>
            </a:r>
            <a:endParaRPr b="0" lang="en-US" sz="1800" spc="-1" strike="noStrike">
              <a:solidFill>
                <a:srgbClr val="ffffff"/>
              </a:solidFill>
              <a:latin typeface="Times New Roman"/>
            </a:endParaRPr>
          </a:p>
        </p:txBody>
      </p:sp>
      <p:sp>
        <p:nvSpPr>
          <p:cNvPr id="125" name="PlaceHolder 3"/>
          <p:cNvSpPr>
            <a:spLocks noGrp="1"/>
          </p:cNvSpPr>
          <p:nvPr>
            <p:ph/>
          </p:nvPr>
        </p:nvSpPr>
        <p:spPr>
          <a:xfrm>
            <a:off x="4647960" y="837720"/>
            <a:ext cx="3809880" cy="5715000"/>
          </a:xfrm>
          <a:prstGeom prst="rect">
            <a:avLst/>
          </a:prstGeom>
          <a:noFill/>
          <a:ln w="0">
            <a:noFill/>
          </a:ln>
        </p:spPr>
        <p:txBody>
          <a:bodyPr anchor="t">
            <a:normAutofit/>
          </a:bodyPr>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cepts of alignment refers to the degree of match between test content and the subject area content identified through state academic standard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nalysis of alignment requires a two step proces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ystematic review of standard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ystematic review of test items/task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standards are developed the issue of how achievement will be measured should be a constant consideration.</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large scale assessment becomes more visible to the public the roles of reliability and validity come to the fore</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nt representativeness or alignment is intricately tied to evidence of construct validit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nalysis:  An Educators Fear</a:t>
            </a:r>
            <a:endParaRPr b="0" lang="en-US" sz="2800" spc="-1" strike="noStrike">
              <a:solidFill>
                <a:srgbClr val="ffcc66"/>
              </a:solidFill>
              <a:latin typeface="Arial"/>
            </a:endParaRPr>
          </a:p>
        </p:txBody>
      </p:sp>
      <p:sp>
        <p:nvSpPr>
          <p:cNvPr id="127" name="PlaceHolder 2"/>
          <p:cNvSpPr>
            <a:spLocks noGrp="1"/>
          </p:cNvSpPr>
          <p:nvPr>
            <p:ph/>
          </p:nvPr>
        </p:nvSpPr>
        <p:spPr>
          <a:xfrm>
            <a:off x="762120" y="609480"/>
            <a:ext cx="7772400" cy="6019920"/>
          </a:xfrm>
          <a:prstGeom prst="rect">
            <a:avLst/>
          </a:prstGeom>
          <a:noFill/>
          <a:ln w="0">
            <a:noFill/>
          </a:ln>
        </p:spPr>
        <p:txBody>
          <a:bodyPr anchor="t">
            <a:normAutofit/>
          </a:bodyPr>
          <a:p>
            <a:pPr marL="609480" indent="-60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al strategies, not gut feelings form the hallmark of good instructional decisions</a:t>
            </a:r>
            <a:endParaRPr b="0" lang="en-US" sz="2000" spc="-1" strike="noStrike">
              <a:solidFill>
                <a:srgbClr val="ffffff"/>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w things are more feared than the thought of statistical analysis.  Statistics  is seen by most as a formal domain of advanced mathematics</a:t>
            </a:r>
            <a:endParaRPr b="0" lang="en-US" sz="20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ducators fear of statistics likely stems from a variety of factors which lack the following four important components:</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struction of statistics does not emphasize the relevance of data to the day-to-day lives of principals and teachers</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does not fully integrate current technology into the teaching and learning of statistics</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w if any statistics courses are designed for students enrolled in educational leadership</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y statistics courses taught in colleges of education focus a major part of time on inferential statistics as a tool to improve problem analysis, student evaluation, data-based decision making and report prepa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teps for Easing the Use of Data</a:t>
            </a:r>
            <a:r>
              <a:rPr b="0" lang="en-US" sz="4400" spc="-1" strike="noStrike">
                <a:solidFill>
                  <a:srgbClr val="ffcc66"/>
                </a:solidFill>
                <a:latin typeface="Arial"/>
              </a:rPr>
              <a:t> </a:t>
            </a:r>
            <a:endParaRPr b="0" lang="en-US" sz="4400" spc="-1" strike="noStrike">
              <a:solidFill>
                <a:srgbClr val="ffcc66"/>
              </a:solidFill>
              <a:latin typeface="Arial"/>
            </a:endParaRPr>
          </a:p>
        </p:txBody>
      </p:sp>
      <p:graphicFrame>
        <p:nvGraphicFramePr>
          <p:cNvPr id="129" name="Object 3"/>
          <p:cNvGraphicFramePr/>
          <p:nvPr/>
        </p:nvGraphicFramePr>
        <p:xfrm>
          <a:off x="457200" y="2057400"/>
          <a:ext cx="8229600" cy="2949480"/>
        </p:xfrm>
        <a:graphic>
          <a:graphicData uri="http://schemas.openxmlformats.org/presentationml/2006/ole">
            <p:oleObj r:id="rId1" spid="">
              <p:embed/>
              <p:pic>
                <p:nvPicPr>
                  <p:cNvPr id="130" name="Object 3" descr=""/>
                  <p:cNvPicPr/>
                  <p:nvPr/>
                </p:nvPicPr>
                <p:blipFill>
                  <a:blip r:embed="rId2"/>
                  <a:stretch/>
                </p:blipFill>
                <p:spPr>
                  <a:xfrm>
                    <a:off x="457200" y="2057400"/>
                    <a:ext cx="8229600" cy="2949480"/>
                  </a:xfrm>
                  <a:prstGeom prst="rect">
                    <a:avLst/>
                  </a:prstGeom>
                  <a:ln w="0">
                    <a:noFill/>
                  </a:ln>
                </p:spPr>
              </p:pic>
            </p:oleObj>
          </a:graphicData>
        </a:graphic>
      </p:graphicFrame>
      <p:sp>
        <p:nvSpPr>
          <p:cNvPr id="131" name="Text Box 5"/>
          <p:cNvSpPr/>
          <p:nvPr/>
        </p:nvSpPr>
        <p:spPr>
          <a:xfrm>
            <a:off x="685800" y="114300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collection is not the most difficult task in data driven decision making.  The following steps can make data management easier and more effici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etter Data, Better Learning</a:t>
            </a:r>
            <a:endParaRPr b="0" lang="en-US" sz="3200" spc="-1" strike="noStrike">
              <a:solidFill>
                <a:srgbClr val="ffcc66"/>
              </a:solidFill>
              <a:latin typeface="Arial"/>
            </a:endParaRPr>
          </a:p>
        </p:txBody>
      </p:sp>
      <p:sp>
        <p:nvSpPr>
          <p:cNvPr id="133" name="PlaceHolder 2"/>
          <p:cNvSpPr>
            <a:spLocks noGrp="1"/>
          </p:cNvSpPr>
          <p:nvPr>
            <p:ph/>
          </p:nvPr>
        </p:nvSpPr>
        <p:spPr>
          <a:xfrm>
            <a:off x="685800" y="1219320"/>
            <a:ext cx="7772400" cy="4952880"/>
          </a:xfrm>
          <a:prstGeom prst="rect">
            <a:avLst/>
          </a:prstGeom>
          <a:noFill/>
          <a:ln w="0">
            <a:noFill/>
          </a:ln>
        </p:spPr>
        <p:txBody>
          <a:bodyPr anchor="t">
            <a:normAutofit/>
          </a:bodyPr>
          <a:p>
            <a:pPr marL="609480" indent="-60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est data for providing feedback for both students and teachers is the:</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iodic Progress Monitoring: performed three to ten times per year</a:t>
            </a:r>
            <a:endParaRPr b="0" lang="en-US" sz="2400" spc="-1" strike="noStrike">
              <a:solidFill>
                <a:srgbClr val="ffffff"/>
              </a:solidFill>
              <a:latin typeface="Times New Roman"/>
            </a:endParaRPr>
          </a:p>
          <a:p>
            <a:pPr marL="609480" indent="-609480">
              <a:spcBef>
                <a:spcPts val="60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Progress Monitoring: performed continuously for daily, even hourly feedback</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type of data should be collected consistently by teachers and used as part of their growth plan for improving instruction collectively and individually wit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143000" y="762120"/>
            <a:ext cx="6705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nstead of giving the children a task and measuring how well they do or how badly they fail, one can give the children the task and observe how much and what kind of help they need in order to complete the task successfully.  In this approach the child is not assessed alone.  Rather, the social system of the teacher and child is dynamically assessed to determine how far along is has progress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ewman, Griffin, and Cole, 1989)</a:t>
            </a:r>
            <a:endParaRPr b="0" lang="en-US" sz="2400" spc="-1" strike="noStrike">
              <a:solidFill>
                <a:srgbClr val="ffffff"/>
              </a:solidFill>
              <a:latin typeface="Times New Roman"/>
            </a:endParaRPr>
          </a:p>
        </p:txBody>
      </p:sp>
      <p:sp>
        <p:nvSpPr>
          <p:cNvPr id="135" name="Text Box 3"/>
          <p:cNvSpPr/>
          <p:nvPr/>
        </p:nvSpPr>
        <p:spPr>
          <a:xfrm>
            <a:off x="685800" y="525780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ders succeed when armed with knowledge and the ability to use that knowledge to overcome obstacles.  Understanding how to use data and its potential to inform decisions is a guiding factor in today’s educational arena</a:t>
            </a:r>
            <a:endParaRPr b="0" lang="en-US" sz="2000" spc="-1" strike="noStrike">
              <a:solidFill>
                <a:srgbClr val="ffffff"/>
              </a:solidFill>
              <a:latin typeface="Times New Roman"/>
            </a:endParaRPr>
          </a:p>
        </p:txBody>
      </p:sp>
      <p:sp>
        <p:nvSpPr>
          <p:cNvPr id="136" name="Line 5"/>
          <p:cNvSpPr/>
          <p:nvPr/>
        </p:nvSpPr>
        <p:spPr>
          <a:xfrm>
            <a:off x="838080" y="609480"/>
            <a:ext cx="73152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6"/>
          <p:cNvSpPr/>
          <p:nvPr/>
        </p:nvSpPr>
        <p:spPr>
          <a:xfrm>
            <a:off x="838080" y="685800"/>
            <a:ext cx="0" cy="3962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7"/>
          <p:cNvSpPr/>
          <p:nvPr/>
        </p:nvSpPr>
        <p:spPr>
          <a:xfrm>
            <a:off x="838080" y="4648320"/>
            <a:ext cx="7391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8"/>
          <p:cNvSpPr/>
          <p:nvPr/>
        </p:nvSpPr>
        <p:spPr>
          <a:xfrm flipV="1">
            <a:off x="8229600" y="609120"/>
            <a:ext cx="0" cy="4038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25560"/>
            <a:ext cx="7772400" cy="51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ssment for Learning</a:t>
            </a:r>
            <a:endParaRPr b="0" lang="en-US" sz="36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for learning is the process of seeking and interpreting evidence for use by learners and their teachers to decide where the learners are in their learning, where they need to go, and how best to get the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for learning involves the use of classroom assessment to improve learning.</a:t>
            </a:r>
            <a:endParaRPr b="0" lang="en-US" sz="3200" spc="-1" strike="noStrike">
              <a:solidFill>
                <a:srgbClr val="ffffff"/>
              </a:solidFill>
              <a:latin typeface="Times New Roman"/>
            </a:endParaRPr>
          </a:p>
        </p:txBody>
      </p:sp>
    </p:spTree>
  </p:cSld>
  <p:transition>
    <p:wipe dir="r"/>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audio isNarration="0">
                                      <p:cMediaNode showWhenStopped="1">
                                        <p:cTn/>
                                        <p:tgtEl>
                                          <p:sndTgt r:embed="rId1" name="whoosh.wav"/>
                                        </p:tgtEl>
                                      </p:cMediaNode>
                                    </p:audio>
                                    <p:set>
                                      <p:cBhvr>
                                        <p:cTn id="14"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audio isNarration="0">
                                      <p:cMediaNode showWhenStopped="1">
                                        <p:cTn/>
                                        <p:tgtEl>
                                          <p:sndTgt r:embed="rId2" name="whoosh.wav"/>
                                        </p:tgtEl>
                                      </p:cMediaNode>
                                    </p:audio>
                                    <p:set>
                                      <p:cBhvr>
                                        <p:cTn id="1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Key Features                            Central to Assessment for Learning</a:t>
            </a:r>
            <a:endParaRPr b="0" lang="en-US" sz="3600" spc="-1" strike="noStrike">
              <a:solidFill>
                <a:srgbClr val="ffcc66"/>
              </a:solidFill>
              <a:latin typeface="Arial"/>
            </a:endParaRPr>
          </a:p>
        </p:txBody>
      </p:sp>
      <p:sp>
        <p:nvSpPr>
          <p:cNvPr id="100" name="PlaceHolder 2"/>
          <p:cNvSpPr>
            <a:spLocks noGrp="1"/>
          </p:cNvSpPr>
          <p:nvPr>
            <p:ph/>
          </p:nvPr>
        </p:nvSpPr>
        <p:spPr>
          <a:xfrm>
            <a:off x="609120" y="1600200"/>
            <a:ext cx="8001000" cy="464832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embedded in the teaching and learning proces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s learning goals with pupil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s pupils to know and recognize the standards to aim fo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eedback which leads pupils to identify what they should do nex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s a commitment that every pupil can improv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both teacher and pupils reviewing and reflecting on pupils’ performance and progres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pupils in self-assessment</a:t>
            </a:r>
            <a:endParaRPr b="0" lang="en-US" sz="28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82280"/>
            <a:ext cx="7772400" cy="41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necting Assessment to Instruction</a:t>
            </a:r>
            <a:endParaRPr b="0" lang="en-US" sz="2800" spc="-1" strike="noStrike">
              <a:solidFill>
                <a:srgbClr val="ffcc66"/>
              </a:solidFill>
              <a:latin typeface="Arial"/>
            </a:endParaRPr>
          </a:p>
        </p:txBody>
      </p:sp>
      <p:sp>
        <p:nvSpPr>
          <p:cNvPr id="102" name="PlaceHolder 2"/>
          <p:cNvSpPr>
            <a:spLocks noGrp="1"/>
          </p:cNvSpPr>
          <p:nvPr>
            <p:ph/>
          </p:nvPr>
        </p:nvSpPr>
        <p:spPr>
          <a:xfrm>
            <a:off x="304560" y="1523880"/>
            <a:ext cx="4190760" cy="5029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e types of decisions using assessment results:</a:t>
            </a:r>
            <a:endParaRPr b="0" lang="en-US" sz="24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al placement decisions:</a:t>
            </a:r>
            <a:r>
              <a:rPr b="0" lang="en-US" sz="1800" spc="-1" strike="noStrike">
                <a:solidFill>
                  <a:srgbClr val="ffffff"/>
                </a:solidFill>
                <a:latin typeface="Times New Roman"/>
              </a:rPr>
              <a:t>  What the student knows and where he/she should be</a:t>
            </a:r>
            <a:endParaRPr b="0" lang="en-US" sz="1800" spc="-1" strike="noStrike">
              <a:solidFill>
                <a:srgbClr val="ffffff"/>
              </a:solidFill>
              <a:latin typeface="Times New Roman"/>
            </a:endParaRPr>
          </a:p>
          <a:p>
            <a:pPr marL="533520" indent="-533520">
              <a:spcBef>
                <a:spcPts val="499"/>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ive evaluation decisions:</a:t>
            </a:r>
            <a:r>
              <a:rPr b="0" lang="en-US" sz="2000" spc="-1" strike="noStrike">
                <a:solidFill>
                  <a:srgbClr val="ffffff"/>
                </a:solidFill>
                <a:latin typeface="Times New Roman"/>
              </a:rPr>
              <a:t>  monitor a student’s learning while instruction is underway</a:t>
            </a:r>
            <a:endParaRPr b="0" lang="en-US" sz="2000" spc="-1" strike="noStrike">
              <a:solidFill>
                <a:srgbClr val="ffffff"/>
              </a:solidFill>
              <a:latin typeface="Times New Roman"/>
            </a:endParaRPr>
          </a:p>
          <a:p>
            <a:pPr marL="533520" indent="-533520">
              <a:spcBef>
                <a:spcPts val="60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decisions: </a:t>
            </a:r>
            <a:r>
              <a:rPr b="0" lang="en-US" sz="1800" spc="-1" strike="noStrike">
                <a:solidFill>
                  <a:srgbClr val="ffffff"/>
                </a:solidFill>
                <a:latin typeface="Times New Roman"/>
              </a:rPr>
              <a:t>which difficulties account for the student’s inadequate progress in order to remedi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PlaceHolder 3"/>
          <p:cNvSpPr>
            <a:spLocks noGrp="1"/>
          </p:cNvSpPr>
          <p:nvPr>
            <p:ph/>
          </p:nvPr>
        </p:nvSpPr>
        <p:spPr>
          <a:xfrm>
            <a:off x="4647960" y="1523880"/>
            <a:ext cx="4267080" cy="50292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ment criteria to address curriculum needs:</a:t>
            </a:r>
            <a:endParaRPr b="0" lang="en-US" sz="24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asure important learning outcome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dress all three purposes of assessment</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vide clear descriptions of student performance linked to instructional action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atible with a variety of instructional model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sily administered, scored, and interpreted</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unicate the goals of learning to teachers and student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enerate accurate, meaningful information</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4"/>
          <p:cNvSpPr/>
          <p:nvPr/>
        </p:nvSpPr>
        <p:spPr>
          <a:xfrm rot="3195600">
            <a:off x="37800" y="3695760"/>
            <a:ext cx="3543480" cy="2095560"/>
          </a:xfrm>
          <a:custGeom>
            <a:avLst/>
            <a:gdLst>
              <a:gd name="textAreaLeft" fmla="*/ 675720 w 3543480"/>
              <a:gd name="textAreaRight" fmla="*/ 2808720 w 3543480"/>
              <a:gd name="textAreaTop" fmla="*/ 280440 h 2095560"/>
              <a:gd name="textAreaBottom" fmla="*/ 1815120 h 2095560"/>
            </a:gdLst>
            <a:ahLst/>
            <a:rect l="textAreaLeft" t="textAreaTop" r="textAreaRight" b="textAreaBottom"/>
            <a:pathLst>
              <a:path w="21600" h="21600">
                <a:moveTo>
                  <a:pt x="0" y="0"/>
                </a:moveTo>
                <a:arcTo wR="8240" hR="21600" stAng="10800000" swAng="-5400000"/>
                <a:lnTo>
                  <a:pt x="13000" y="21600"/>
                </a:lnTo>
                <a:arcTo wR="8240" hR="21600" stAng="5400000" swAng="-2780118"/>
                <a:lnTo>
                  <a:pt x="21103" y="7390"/>
                </a:lnTo>
                <a:lnTo>
                  <a:pt x="18860" y="0"/>
                </a:lnTo>
                <a:lnTo>
                  <a:pt x="15623" y="7390"/>
                </a:lnTo>
                <a:lnTo>
                  <a:pt x="15983" y="7390"/>
                </a:lnTo>
                <a:arcTo wR="8240" hR="21600" stAng="2619882" swAng="2386199"/>
                <a:lnTo>
                  <a:pt x="10620" y="20679"/>
                </a:lnTo>
                <a:arcTo wR="8240" hR="21600" stAng="5793919" swAng="5006081"/>
                <a:close/>
              </a:path>
              <a:path fill="darkenLess" w="21600" h="21600">
                <a:moveTo>
                  <a:pt x="0" y="0"/>
                </a:moveTo>
                <a:arcTo wR="8240" hR="21600" stAng="10800000" swAng="-5400000"/>
                <a:lnTo>
                  <a:pt x="13000" y="21600"/>
                </a:lnTo>
                <a:arcTo wR="8240" hR="21600" stAng="5400000" swAng="393919"/>
                <a:lnTo>
                  <a:pt x="10620" y="20679"/>
                </a:lnTo>
                <a:arcTo wR="8240" hR="21600" stAng="5793919" swAng="5006081"/>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AutoShape 5"/>
          <p:cNvSpPr/>
          <p:nvPr/>
        </p:nvSpPr>
        <p:spPr>
          <a:xfrm rot="17604600">
            <a:off x="5905080" y="3619080"/>
            <a:ext cx="3429000" cy="2133720"/>
          </a:xfrm>
          <a:custGeom>
            <a:avLst/>
            <a:gdLst>
              <a:gd name="textAreaLeft" fmla="*/ 653760 w 3429000"/>
              <a:gd name="textAreaRight" fmla="*/ 2718000 w 3429000"/>
              <a:gd name="textAreaTop" fmla="*/ 285840 h 2133720"/>
              <a:gd name="textAreaBottom" fmla="*/ 1847880 h 2133720"/>
            </a:gdLst>
            <a:ahLst/>
            <a:rect l="textAreaLeft" t="textAreaTop" r="textAreaRight" b="textAreaBottom"/>
            <a:pathLst>
              <a:path w="21600" h="21600">
                <a:moveTo>
                  <a:pt x="0" y="0"/>
                </a:moveTo>
                <a:arcTo wR="8240" hR="21600" stAng="10800000" swAng="-5400000"/>
                <a:lnTo>
                  <a:pt x="13000" y="21600"/>
                </a:lnTo>
                <a:arcTo wR="8240" hR="21600" stAng="5400000" swAng="-2780118"/>
                <a:lnTo>
                  <a:pt x="21103" y="7390"/>
                </a:lnTo>
                <a:lnTo>
                  <a:pt x="18860" y="0"/>
                </a:lnTo>
                <a:lnTo>
                  <a:pt x="15623" y="7390"/>
                </a:lnTo>
                <a:lnTo>
                  <a:pt x="15983" y="7390"/>
                </a:lnTo>
                <a:arcTo wR="8240" hR="21600" stAng="2619882" swAng="2386199"/>
                <a:lnTo>
                  <a:pt x="10620" y="20679"/>
                </a:lnTo>
                <a:arcTo wR="8240" hR="21600" stAng="5793919" swAng="5006081"/>
                <a:close/>
              </a:path>
              <a:path fill="darkenLess" w="21600" h="21600">
                <a:moveTo>
                  <a:pt x="0" y="0"/>
                </a:moveTo>
                <a:arcTo wR="8240" hR="21600" stAng="10800000" swAng="-5400000"/>
                <a:lnTo>
                  <a:pt x="13000" y="21600"/>
                </a:lnTo>
                <a:arcTo wR="8240" hR="21600" stAng="5400000" swAng="393919"/>
                <a:lnTo>
                  <a:pt x="10620" y="20679"/>
                </a:lnTo>
                <a:arcTo wR="8240" hR="21600" stAng="5793919" swAng="5006081"/>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AutoShape 6"/>
          <p:cNvSpPr/>
          <p:nvPr/>
        </p:nvSpPr>
        <p:spPr>
          <a:xfrm rot="10698600">
            <a:off x="2285640" y="227880"/>
            <a:ext cx="4727520" cy="1981080"/>
          </a:xfrm>
          <a:custGeom>
            <a:avLst/>
            <a:gdLst>
              <a:gd name="textAreaLeft" fmla="*/ 901440 w 4727520"/>
              <a:gd name="textAreaRight" fmla="*/ 3747240 w 4727520"/>
              <a:gd name="textAreaTop" fmla="*/ 265320 h 1981080"/>
              <a:gd name="textAreaBottom" fmla="*/ 1715760 h 1981080"/>
            </a:gdLst>
            <a:ahLst/>
            <a:rect l="textAreaLeft" t="textAreaTop" r="textAreaRight" b="textAreaBottom"/>
            <a:pathLst>
              <a:path w="21600" h="21600">
                <a:moveTo>
                  <a:pt x="0" y="0"/>
                </a:moveTo>
                <a:arcTo wR="8240" hR="21600" stAng="10800000" swAng="-5400000"/>
                <a:lnTo>
                  <a:pt x="13000" y="21600"/>
                </a:lnTo>
                <a:arcTo wR="8240" hR="21600" stAng="5400000" swAng="-2780118"/>
                <a:lnTo>
                  <a:pt x="21103" y="7390"/>
                </a:lnTo>
                <a:lnTo>
                  <a:pt x="18860" y="0"/>
                </a:lnTo>
                <a:lnTo>
                  <a:pt x="15623" y="7390"/>
                </a:lnTo>
                <a:lnTo>
                  <a:pt x="15983" y="7390"/>
                </a:lnTo>
                <a:arcTo wR="8240" hR="21600" stAng="2619882" swAng="2386199"/>
                <a:lnTo>
                  <a:pt x="10620" y="20679"/>
                </a:lnTo>
                <a:arcTo wR="8240" hR="21600" stAng="5793919" swAng="5006081"/>
                <a:close/>
              </a:path>
              <a:path fill="darkenLess" w="21600" h="21600">
                <a:moveTo>
                  <a:pt x="0" y="0"/>
                </a:moveTo>
                <a:arcTo wR="8240" hR="21600" stAng="10800000" swAng="-5400000"/>
                <a:lnTo>
                  <a:pt x="13000" y="21600"/>
                </a:lnTo>
                <a:arcTo wR="8240" hR="21600" stAng="5400000" swAng="393919"/>
                <a:lnTo>
                  <a:pt x="10620" y="20679"/>
                </a:lnTo>
                <a:arcTo wR="8240" hR="21600" stAng="5793919" swAng="5006081"/>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7"/>
          <p:cNvSpPr/>
          <p:nvPr/>
        </p:nvSpPr>
        <p:spPr>
          <a:xfrm>
            <a:off x="609480" y="19810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riculum</a:t>
            </a:r>
            <a:endParaRPr b="0" lang="en-US" sz="3600" spc="-1" strike="noStrike">
              <a:solidFill>
                <a:srgbClr val="ffffff"/>
              </a:solidFill>
              <a:latin typeface="Times New Roman"/>
            </a:endParaRPr>
          </a:p>
        </p:txBody>
      </p:sp>
      <p:sp>
        <p:nvSpPr>
          <p:cNvPr id="108" name="Text Box 8"/>
          <p:cNvSpPr/>
          <p:nvPr/>
        </p:nvSpPr>
        <p:spPr>
          <a:xfrm>
            <a:off x="6477120" y="22860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struction</a:t>
            </a:r>
            <a:endParaRPr b="0" lang="en-US" sz="3600" spc="-1" strike="noStrike">
              <a:solidFill>
                <a:srgbClr val="ffffff"/>
              </a:solidFill>
              <a:latin typeface="Times New Roman"/>
            </a:endParaRPr>
          </a:p>
        </p:txBody>
      </p:sp>
      <p:sp>
        <p:nvSpPr>
          <p:cNvPr id="109" name="Text Box 9"/>
          <p:cNvSpPr/>
          <p:nvPr/>
        </p:nvSpPr>
        <p:spPr>
          <a:xfrm>
            <a:off x="3505320" y="49528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sessment</a:t>
            </a:r>
            <a:endParaRPr b="0" lang="en-US" sz="3600" spc="-1" strike="noStrike">
              <a:solidFill>
                <a:srgbClr val="ffffff"/>
              </a:solidFill>
              <a:latin typeface="Times New Roman"/>
            </a:endParaRPr>
          </a:p>
        </p:txBody>
      </p:sp>
      <p:sp>
        <p:nvSpPr>
          <p:cNvPr id="110" name="Text Box 10"/>
          <p:cNvSpPr/>
          <p:nvPr/>
        </p:nvSpPr>
        <p:spPr>
          <a:xfrm>
            <a:off x="3733920" y="28954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A  Loop</a:t>
            </a:r>
            <a:endParaRPr b="0" lang="en-US" sz="3200" spc="-1" strike="noStrike">
              <a:solidFill>
                <a:srgbClr val="ffffff"/>
              </a:solidFill>
              <a:latin typeface="Times New Roman"/>
            </a:endParaRPr>
          </a:p>
        </p:txBody>
      </p:sp>
      <p:sp>
        <p:nvSpPr>
          <p:cNvPr id="111" name="Text Box 11"/>
          <p:cNvSpPr/>
          <p:nvPr/>
        </p:nvSpPr>
        <p:spPr>
          <a:xfrm>
            <a:off x="1295280" y="617220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12"/>
          <p:cNvSpPr/>
          <p:nvPr/>
        </p:nvSpPr>
        <p:spPr>
          <a:xfrm>
            <a:off x="1523880" y="609588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Text Box 13"/>
          <p:cNvSpPr/>
          <p:nvPr/>
        </p:nvSpPr>
        <p:spPr>
          <a:xfrm>
            <a:off x="152280" y="61722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of the three elements is equally important for effective instru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7772400" cy="75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search-based Principles of Assessment for Learning</a:t>
            </a:r>
            <a:endParaRPr b="0" lang="en-US" sz="2800" spc="-1" strike="noStrike">
              <a:solidFill>
                <a:srgbClr val="ffcc66"/>
              </a:solidFill>
              <a:latin typeface="Arial"/>
            </a:endParaRPr>
          </a:p>
        </p:txBody>
      </p:sp>
      <p:sp>
        <p:nvSpPr>
          <p:cNvPr id="115" name="PlaceHolder 2"/>
          <p:cNvSpPr>
            <a:spLocks noGrp="1"/>
          </p:cNvSpPr>
          <p:nvPr>
            <p:ph/>
          </p:nvPr>
        </p:nvSpPr>
        <p:spPr>
          <a:xfrm>
            <a:off x="1752120" y="1371600"/>
            <a:ext cx="6629400" cy="4952880"/>
          </a:xfrm>
          <a:prstGeom prst="rect">
            <a:avLst/>
          </a:prstGeom>
          <a:noFill/>
          <a:ln w="0">
            <a:noFill/>
          </a:ln>
        </p:spPr>
        <p:txBody>
          <a:bodyPr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 of effective planning</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cuses on how students learn</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tral to classroom practice</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key professional skil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sensitive and constructive</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ters motivation</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es understanding of goals and criteri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s learners know how to improve</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s the capacity for self assessment</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gnizes all educational achievement</a:t>
            </a:r>
            <a:endParaRPr b="0" lang="en-US" sz="28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thinking Assessment and Its Role in Educational Reform</a:t>
            </a:r>
            <a:endParaRPr b="0" lang="en-US" sz="28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global economy of the 21</a:t>
            </a:r>
            <a:r>
              <a:rPr b="0" lang="en-US" sz="1800" spc="-1" strike="noStrike" baseline="30000">
                <a:solidFill>
                  <a:srgbClr val="ffffff"/>
                </a:solidFill>
                <a:latin typeface="Times New Roman"/>
              </a:rPr>
              <a:t>st</a:t>
            </a:r>
            <a:r>
              <a:rPr b="0" lang="en-US" sz="1800" spc="-1" strike="noStrike">
                <a:solidFill>
                  <a:srgbClr val="ffffff"/>
                </a:solidFill>
                <a:latin typeface="Times New Roman"/>
              </a:rPr>
              <a:t> century students need to understand the basics, think critically, analyze, and make inferences.  They must be able to interpret, access, and use information to make decisions.   Consequently we must change assessment strategies to tie assessment design and  content to new outcomes and purposes for assessment.</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essment reform is a means of setting more appropriate targets for students, focusing staff development efforts, encouraging curriculum reform, and improving instruction and instructional materials.</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tion that learning comes  about by the accretion of little bits is outmoded learning theory.  Current models contend that learners gain understanding when they construct their own cognitive maps of the inter-connections among concepts and fac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25" dur="500"/>
                                        <p:tgtEl>
                                          <p:spTgt spid="117">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30" dur="500"/>
                                        <p:tgtEl>
                                          <p:spTgt spid="117">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3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atching Assessments to the Purposes of Assessment</a:t>
            </a:r>
            <a:endParaRPr b="0" lang="en-US" sz="2800" spc="-1" strike="noStrike">
              <a:solidFill>
                <a:srgbClr val="ffcc66"/>
              </a:solidFill>
              <a:latin typeface="Arial"/>
            </a:endParaRPr>
          </a:p>
        </p:txBody>
      </p:sp>
      <p:sp>
        <p:nvSpPr>
          <p:cNvPr id="119" name="PlaceHolder 2"/>
          <p:cNvSpPr>
            <a:spLocks noGrp="1"/>
          </p:cNvSpPr>
          <p:nvPr>
            <p:ph/>
          </p:nvPr>
        </p:nvSpPr>
        <p:spPr>
          <a:xfrm>
            <a:off x="685440" y="1752480"/>
            <a:ext cx="3809880" cy="5105520"/>
          </a:xfrm>
          <a:prstGeom prst="rect">
            <a:avLst/>
          </a:prstGeom>
          <a:noFill/>
          <a:ln w="0">
            <a:noFill/>
          </a:ln>
        </p:spPr>
        <p:txBody>
          <a:bodyPr anchor="t">
            <a:normAutofit/>
          </a:bodyPr>
          <a:p>
            <a:pPr marL="533520" indent="-53352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nd assessment begins when the content of the assessment is defined (the student standards or goals to be assessed) and the purpose for the assessment is clearly stated.</a:t>
            </a:r>
            <a:endParaRPr b="0" lang="en-US" sz="1600" spc="-1" strike="noStrike">
              <a:solidFill>
                <a:srgbClr val="ffffff"/>
              </a:solidFill>
              <a:latin typeface="Times New Roman"/>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33520" indent="-53352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are two purposes for assessment:  </a:t>
            </a:r>
            <a:endParaRPr b="0" lang="en-US" sz="1600" spc="-1" strike="noStrike">
              <a:solidFill>
                <a:srgbClr val="ffffff"/>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  To determine if students have acquired specific knowledge or skills</a:t>
            </a:r>
            <a:endParaRPr b="0" lang="en-US" sz="1600" spc="-1" strike="noStrike">
              <a:solidFill>
                <a:srgbClr val="ffffff"/>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2.  To diagnose student strengths and weaknesses and plan appropriate instruction</a:t>
            </a:r>
            <a:endParaRPr b="0" lang="en-US" sz="1600" spc="-1" strike="noStrike">
              <a:solidFill>
                <a:srgbClr val="ffffff"/>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33520" indent="-53352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sessments should be well matched with the full range of goals for student performance</a:t>
            </a:r>
            <a:endParaRPr b="0" lang="en-US" sz="1600" spc="-1" strike="noStrike">
              <a:solidFill>
                <a:srgbClr val="ffffff"/>
              </a:solidFill>
              <a:latin typeface="Times New Roman"/>
            </a:endParaRPr>
          </a:p>
        </p:txBody>
      </p:sp>
      <p:sp>
        <p:nvSpPr>
          <p:cNvPr id="120" name="PlaceHolder 3"/>
          <p:cNvSpPr>
            <a:spLocks noGrp="1"/>
          </p:cNvSpPr>
          <p:nvPr>
            <p:ph/>
          </p:nvPr>
        </p:nvSpPr>
        <p:spPr>
          <a:xfrm>
            <a:off x="4647960" y="1599840"/>
            <a:ext cx="3809880" cy="5257800"/>
          </a:xfrm>
          <a:prstGeom prst="rect">
            <a:avLst/>
          </a:prstGeom>
          <a:noFill/>
          <a:ln w="0">
            <a:noFill/>
          </a:ln>
        </p:spPr>
        <p:txBody>
          <a:bodyPr anchor="t">
            <a:normAutofit/>
          </a:bodyPr>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ch the assessment method to the achievement purpose and target</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y illustrative tasks that require students to demonstrate certain skills and accomplishments that demonstrate student mastery of the desired outcomes</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y the criteria and standards for judging student performance on task selected</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velop  a reliable rating process that allows different raters at different points in time to obtain the same results</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void pitfalls that threaten reliability and validity</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llect evidence/data showing that the assessment is reliable and valid</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sure consequential validity</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 test results to refine assessment and improve curriculum and instruction</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ing Principals for Addressing the Accountability Challenges</a:t>
            </a:r>
            <a:endParaRPr b="0" lang="en-US" sz="2800" spc="-1" strike="noStrike">
              <a:solidFill>
                <a:srgbClr val="ffcc66"/>
              </a:solidFill>
              <a:latin typeface="Arial"/>
            </a:endParaRPr>
          </a:p>
        </p:txBody>
      </p:sp>
      <p:sp>
        <p:nvSpPr>
          <p:cNvPr id="122" name="PlaceHolder 2"/>
          <p:cNvSpPr>
            <a:spLocks noGrp="1"/>
          </p:cNvSpPr>
          <p:nvPr>
            <p:ph/>
          </p:nvPr>
        </p:nvSpPr>
        <p:spPr>
          <a:xfrm>
            <a:off x="685800" y="1295280"/>
            <a:ext cx="7848720" cy="518184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igh stakes accountability emphasizes the importance of collecting, analyzing, and using different data to measure student learning and to plot future education.  In order to harness the value of data-driven decision making, to empower the learning community and improve schools research outlines seven guiding principles:</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ision – all participants must be informed and engaged in the process.  There must be a common definition of accountability with realistic expectations and the use of data should be part of the overall school vision</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ty – accountability must be shared among all participants </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fessional Development – training must be provided in order that the staff and administrator understands how collecting, analyzing, and using data apply to measuring student learning.  Curriculum mapping is one means to that end</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vernance – placing student learning at the heart of the enterprise</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grity – stand and deliver, mirror the dynamics of data driven behavior</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dgment – expect the best, forget the rest.  High expectations of the staff as well as the students</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sessment – speak in data, harness its power.  Visualize, numbers in graphs, maps and charts to be seen in relationship to each other</a:t>
            </a:r>
            <a:endParaRPr b="0" lang="en-US" sz="1600" spc="-1" strike="noStrike">
              <a:solidFill>
                <a:srgbClr val="ffffff"/>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01:48:57Z</dcterms:created>
  <dc:creator>Pricilla Hege</dc:creator>
  <dc:description/>
  <dc:language>en-US</dc:language>
  <cp:lastModifiedBy>User</cp:lastModifiedBy>
  <cp:lastPrinted>2003-09-26T15:11:58Z</cp:lastPrinted>
  <dcterms:modified xsi:type="dcterms:W3CDTF">2012-08-22T18:19:14Z</dcterms:modified>
  <cp:revision>14</cp:revision>
  <dc:subject/>
  <dc:title>Curriculum and Assessment Should there be a correlation?</dc:title>
</cp:coreProperties>
</file>